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7167563" cy="537845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610D-973B-4E30-BFDD-AF1ACD4A58C5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4866-9B46-43DA-BE37-E93E4FB57CA8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B6F8-9046-4EFA-A65B-60A5BA2047B1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C982-EEAF-4907-835A-D49BB454DE20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678B-D9E1-4A0C-A057-D35532C9ABF0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7664-0763-4ADC-9411-F82FC8B0D7D2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1B04-6530-444B-A001-7A1A5EC7BAA5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1CC7-226B-4A89-829F-0E2AB7B55115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F4D0-95EF-4A05-B098-3370D417F444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851F-2F6D-45BD-A3D3-2B345C8F7839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B5D6-FE5D-4ADB-8A6D-FD9DE6A4A309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72E6-361D-46E1-A93A-04E38B62A572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979F-BC04-43EE-BF63-5C4F22BE0F50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BD3A-F44B-46CB-84DB-99302DD6CC03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2ED3-7171-465A-8FFE-263AF284ECCA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FD07-3051-44C5-8EB0-F3050F8CAE38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B4F4-D04C-4405-A069-4D5AC80C74E7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3AEF-ECF1-4841-BB8C-98DC50E7BE76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8D8A-434C-4BA0-A88B-955414D0D200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9903-EF30-408D-84FA-689E61522867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CF0F-488C-430C-8DA2-5C930AE65A5F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3D89-3FC2-431E-990A-9C76F9CA84DD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A707-2400-4008-B92A-DD0AC0AB6CCC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F434-72E3-48AE-9588-130967F99B69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EB46-9F87-4143-8CA7-56ADF286AE50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8C77-F7E1-474D-A662-C7D671FE65D1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F7C-E523-421B-AE0F-869D4F7C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645156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8560" y="3108600"/>
            <a:ext cx="645156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7F6-F5D2-4C25-A8C4-C7251E76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560" y="310860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64440" y="310860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D7B-2E8E-458A-9DCE-024A5DEA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40160" y="125424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21400" y="125424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8560" y="310860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40160" y="310860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21400" y="310860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6EE-5152-465B-AAE2-6875E835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423-E6D5-4579-9F2E-BC4A86F2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A56-9BF4-4BB6-859D-35A49E1E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D7B-F5E4-4455-A2CE-4EF10A3D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46B-9A3A-4757-ABE6-BA0B2F85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8560" y="215640"/>
            <a:ext cx="6451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6D4-5F07-46DB-B063-CA1B7A95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8560" y="310860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D9F-507A-468A-BCFC-5FF58EFF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64440" y="310860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D8E-52D4-4960-8CFF-9B394C55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8560" y="3108600"/>
            <a:ext cx="645156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49E-0F18-4A4C-A410-9E86872A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9532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254240" indent="-177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161136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161136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161136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560" y="4983120"/>
            <a:ext cx="1672920" cy="2872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49440" y="4983120"/>
            <a:ext cx="2270160" cy="2872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37200" y="4983120"/>
            <a:ext cx="1673280" cy="2872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841C-3C43-4F14-A8EB-421F9E3AF7E1}" type="slidenum">
              <a:rPr b="0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79520" y="1728720"/>
            <a:ext cx="62420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四川公有经济企业统计报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12720" y="3422520"/>
            <a:ext cx="5973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3360" y="364680"/>
            <a:ext cx="5859360" cy="606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单位管理：建立填报单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67800" y="3365640"/>
            <a:ext cx="6156360" cy="98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：建立填报单位、管理填报单位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：在主界面上，点击菜单栏最左边的“单位”按钮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336680" y="1401840"/>
            <a:ext cx="4495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"/>
          <p:cNvPicPr/>
          <p:nvPr/>
        </p:nvPicPr>
        <p:blipFill>
          <a:blip r:embed="rId1"/>
          <a:stretch/>
        </p:blipFill>
        <p:spPr>
          <a:xfrm>
            <a:off x="541440" y="1077840"/>
            <a:ext cx="3441600" cy="1432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1440" y="411120"/>
            <a:ext cx="5425920" cy="574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展开报表列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9600" y="3697200"/>
            <a:ext cx="5983200" cy="790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打开的窗口中单击左边的　  ，展开报表文件目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3535200" y="2654280"/>
            <a:ext cx="98640" cy="68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3079800" y="3713040"/>
            <a:ext cx="323640" cy="3589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0"/>
          <p:cNvSpPr/>
          <p:nvPr/>
        </p:nvSpPr>
        <p:spPr>
          <a:xfrm>
            <a:off x="704880" y="2631960"/>
            <a:ext cx="1123920" cy="331920"/>
          </a:xfrm>
          <a:prstGeom prst="wedgeRoundRectCallout">
            <a:avLst>
              <a:gd name="adj1" fmla="val -38615"/>
              <a:gd name="adj2" fmla="val -162314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展开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2" descr=""/>
          <p:cNvPicPr/>
          <p:nvPr/>
        </p:nvPicPr>
        <p:blipFill>
          <a:blip r:embed="rId4"/>
          <a:stretch/>
        </p:blipFill>
        <p:spPr>
          <a:xfrm>
            <a:off x="2720880" y="2205000"/>
            <a:ext cx="3792600" cy="14702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1"/>
          <p:cNvSpPr/>
          <p:nvPr/>
        </p:nvSpPr>
        <p:spPr>
          <a:xfrm>
            <a:off x="4808520" y="1833480"/>
            <a:ext cx="1089000" cy="355680"/>
          </a:xfrm>
          <a:prstGeom prst="wedgeRoundRectCallout">
            <a:avLst>
              <a:gd name="adj1" fmla="val -70148"/>
              <a:gd name="adj2" fmla="val 247435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展开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7720" y="458280"/>
            <a:ext cx="5104080" cy="559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选中报表类别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04880" y="3336480"/>
            <a:ext cx="5881680" cy="12956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鼠标左键单击选中需填报的报表类别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导出单位列表：可以将单位名录转成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图片 4" descr=""/>
          <p:cNvPicPr/>
          <p:nvPr/>
        </p:nvPicPr>
        <p:blipFill>
          <a:blip r:embed="rId1"/>
          <a:stretch/>
        </p:blipFill>
        <p:spPr>
          <a:xfrm>
            <a:off x="739800" y="1017720"/>
            <a:ext cx="538488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3360" y="458640"/>
            <a:ext cx="5921280" cy="5162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添加单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6480" y="3311280"/>
            <a:ext cx="6802200" cy="16938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“添加”按钮，输入单位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名称可在以后修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通过“上移、下移”调整单位排列顺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特殊需要，可更改单位编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谨慎使用改编号功能！操作不当将会对数据造成不可恢复的损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需要，在不同的报表目录下建立其它的填报单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 1" descr=""/>
          <p:cNvPicPr/>
          <p:nvPr/>
        </p:nvPicPr>
        <p:blipFill>
          <a:blip r:embed="rId1"/>
          <a:stretch/>
        </p:blipFill>
        <p:spPr>
          <a:xfrm>
            <a:off x="1163520" y="1008000"/>
            <a:ext cx="4903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填报单位信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71040" y="3479760"/>
            <a:ext cx="5792760" cy="1300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报单位建立后，填写单位详细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名称要求填写与单位公章一致的单位全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写完毕后“确定”退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击工具栏“单位信息”可以重新填写单位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208160" y="1176480"/>
            <a:ext cx="47880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补充说明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8920" y="1253880"/>
            <a:ext cx="6541920" cy="3552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在同一报表目录下建立多个填报单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在多套报表下分别建立不同的填报单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建立填报单位后，根据报表要求系统会自动提示用户填写填报单位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部分报表可能不要求填写单位信息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面，以“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中学” 模拟填写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机关、事业单位工作人员工资统计报表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填报过程，其它报表填写操作类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992160" y="1174680"/>
            <a:ext cx="4095720" cy="121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2"/>
          <a:stretch/>
        </p:blipFill>
        <p:spPr>
          <a:xfrm>
            <a:off x="3368520" y="2298600"/>
            <a:ext cx="2819520" cy="2105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1080" y="458640"/>
            <a:ext cx="4925880" cy="525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编辑：打开编辑界面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3360" y="3026880"/>
            <a:ext cx="3025800" cy="1638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入报表数据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检验报表数据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印报表数据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在此处将只列出已建立了填报单位的表类，没有填报单位的表类将不予列出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1035"/>
          <p:cNvSpPr/>
          <p:nvPr/>
        </p:nvSpPr>
        <p:spPr>
          <a:xfrm>
            <a:off x="3132000" y="3195720"/>
            <a:ext cx="1173240" cy="312480"/>
          </a:xfrm>
          <a:prstGeom prst="wedgeRoundRectCallout">
            <a:avLst>
              <a:gd name="adj1" fmla="val 5986"/>
              <a:gd name="adj2" fmla="val -23446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表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36"/>
          <p:cNvSpPr/>
          <p:nvPr/>
        </p:nvSpPr>
        <p:spPr>
          <a:xfrm>
            <a:off x="4205160" y="3665520"/>
            <a:ext cx="1128960" cy="320760"/>
          </a:xfrm>
          <a:prstGeom prst="wedgeRoundRectCallout">
            <a:avLst>
              <a:gd name="adj1" fmla="val 20111"/>
              <a:gd name="adj2" fmla="val -124185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单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37"/>
          <p:cNvSpPr/>
          <p:nvPr/>
        </p:nvSpPr>
        <p:spPr>
          <a:xfrm>
            <a:off x="5560920" y="1446120"/>
            <a:ext cx="1241640" cy="338400"/>
          </a:xfrm>
          <a:prstGeom prst="wedgeRoundRectCallout">
            <a:avLst>
              <a:gd name="adj1" fmla="val -43212"/>
              <a:gd name="adj2" fmla="val 263615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子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6360" y="365040"/>
            <a:ext cx="5870520" cy="6206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录入数据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92200" y="3592440"/>
            <a:ext cx="5927760" cy="1671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编辑界面，直接在表格中填入数据，然后保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入数据时可以只录入“分栏”，在录入完毕后，按“回车键”程序自动生成“合计”栏数字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以通过菜单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\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，设置在数据录入时，是否打开自动计算（表内计算）、校验功能（表内校验）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编辑数据时，点击“单位”或“子表”，可以切换填报单位或填写报表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666720" y="1292400"/>
            <a:ext cx="59850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3000" y="411120"/>
            <a:ext cx="5986440" cy="565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表内校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05960" y="3592440"/>
            <a:ext cx="5983560" cy="15242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 fontScale="94000"/>
          </a:bodyPr>
          <a:p>
            <a:pPr marL="252000" indent="-25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完以后，选择“操作”菜单或者鼠标右键的“表内校验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6120" indent="-25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对当前表数据进行表内平衡检查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46120" indent="-25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有误时，根据提示修改数据，直至校验通过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52000" indent="-25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校验要求：请查阅填报说明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2000" indent="-25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建议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6120" indent="-25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仅当下边出现“校验通过”时，再进行下一表数据的录入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352520" y="958680"/>
            <a:ext cx="47736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Calibri"/>
              </a:rPr>
              <a:t>表内校验公式说明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在表内校验过程提示：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1,1]=[3,1] ==&gt;  0≠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示当前表的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列的数字应等于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列的数字，现在不相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H,L]  =&gt;H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示行；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示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784080" y="1368360"/>
            <a:ext cx="597384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2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四川公有经济企业统计报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用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于四川省填报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2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四川公有经济企业统计报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280" y="429840"/>
            <a:ext cx="4543560" cy="700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软件介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1639800" y="1166760"/>
            <a:ext cx="4514760" cy="2190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附注填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36400" y="3327480"/>
            <a:ext cx="607248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不同报表填写要求；如果需要附注说明，在录入报表数据时，系统会自动显示在屏幕下方，如上图样例所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按照实际情况填写，如无则留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144880" y="1866960"/>
            <a:ext cx="1631880" cy="507960"/>
          </a:xfrm>
          <a:prstGeom prst="wedgeRectCallout">
            <a:avLst>
              <a:gd name="adj1" fmla="val 40680"/>
              <a:gd name="adj2" fmla="val 1278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入实有人数与应有人数之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737240" y="2120760"/>
            <a:ext cx="1011240" cy="282600"/>
          </a:xfrm>
          <a:prstGeom prst="wedgeRectCallout">
            <a:avLst>
              <a:gd name="adj1" fmla="val -59657"/>
              <a:gd name="adj2" fmla="val 2015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差异原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备注填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88880" y="2832120"/>
            <a:ext cx="6408720" cy="17287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不同报表，有的在出现数据时需要另附说明以解释或者说明情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图样例：本年新增人员“其他”栏有数字时，要求补充说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单元格无数据时）系统以“</a:t>
            </a:r>
            <a:r>
              <a:rPr b="0" lang="zh-CN" sz="1400" spc="-1" strike="noStrike">
                <a:solidFill>
                  <a:srgbClr val="92d050"/>
                </a:solidFill>
                <a:latin typeface="华文楷体"/>
                <a:ea typeface="华文楷体"/>
              </a:rPr>
              <a:t>淡青色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标注此类单元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单元格有数据时）系统以“</a:t>
            </a:r>
            <a:r>
              <a:rPr b="0" lang="zh-CN" sz="1300" spc="-1" strike="noStrike">
                <a:solidFill>
                  <a:srgbClr val="ff0000"/>
                </a:solidFill>
                <a:latin typeface="华文楷体"/>
                <a:ea typeface="华文楷体"/>
              </a:rPr>
              <a:t>红色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标注此类单元格，用户需要注意另附文档说明该数字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3368520" y="1176480"/>
            <a:ext cx="28609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不填数据单元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60520" y="3552840"/>
            <a:ext cx="6192720" cy="14400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部分报表表格不能填写数据（也称只读），如 “中央”层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编辑数据时，系统默认以灰色填充相应单元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印报表时，相应单元格将会显示为“－”，并居中显示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导出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时，该标志会自动取消，不会显示在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中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“显示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\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颜色设置”，可调整单元格颜色配置（不会影响填报数据）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279440" y="960480"/>
            <a:ext cx="43466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488880" y="1136520"/>
            <a:ext cx="4857840" cy="11052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654120" y="550800"/>
            <a:ext cx="62150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计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3176640" y="1897200"/>
            <a:ext cx="3527280" cy="2266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344520" y="2408400"/>
            <a:ext cx="42480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计算生成“总表”数据、合计行、合计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以下可能需要用到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.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总表）、平均年龄、平均工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报表类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子表（建议全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单位，点 开始 进行计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3800520" y="2544840"/>
            <a:ext cx="3024000" cy="1942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9360" y="528480"/>
            <a:ext cx="6215040" cy="4874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校验：表间校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71080" y="2544840"/>
            <a:ext cx="3529080" cy="2527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检查报表数据表内、表间关系是否完全平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表间校验后，才能生成上报数据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要校验的报表类别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子表时要求全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要审核的单位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 开始 进行审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校验级别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本处按国家要求提供数据校验规则并强制执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非强制校验属于增强校验功能，目的在于进一步挖掘数据中的不合理之处，需要定制开发才能使用，本处暂不可用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178160" y="1469880"/>
            <a:ext cx="2292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lvl="1" marL="35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！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前单位的所有子表的数据都填写完毕并且表内校验都通过以后，退出“录改”功能，在主界面上点“校验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3838680" y="4416480"/>
            <a:ext cx="1833480" cy="450720"/>
          </a:xfrm>
          <a:prstGeom prst="wedgeRectCallout">
            <a:avLst>
              <a:gd name="adj1" fmla="val 30824"/>
              <a:gd name="adj2" fmla="val -11049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此选项可以查出没有填数据的报表，用于防止漏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2"/>
          <a:stretch/>
        </p:blipFill>
        <p:spPr>
          <a:xfrm>
            <a:off x="573120" y="1327320"/>
            <a:ext cx="4019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Calibri"/>
              </a:rPr>
              <a:t>表间校验公式说明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在表内校验过程提示：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1,22,1]=[2,1,1] ==&gt;  10≠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示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列的数字应等于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列的数字，现在不等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1496880" y="1031760"/>
            <a:ext cx="3492720" cy="2260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410760"/>
            <a:ext cx="5992560" cy="5446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校验：数据完全正确的标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71280" y="3538440"/>
            <a:ext cx="4916520" cy="15256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有不通过审核，请进入“录改”调整相应数据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然后重新进行“表间校验”，直至全部通过审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提示中有“是否要查看无数据信息”内容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明有个别报表没有填写数据（用作参考，不影响上报）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!!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只能在“校验通过”后才能上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2216160" y="2455920"/>
            <a:ext cx="1243080" cy="511200"/>
          </a:xfrm>
          <a:prstGeom prst="wedgeRoundRectCallout">
            <a:avLst>
              <a:gd name="adj1" fmla="val 24870"/>
              <a:gd name="adj2" fmla="val -100851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明数据已全部正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4494240" y="2544840"/>
            <a:ext cx="992160" cy="566640"/>
          </a:xfrm>
          <a:prstGeom prst="wedgeRoundRectCallout">
            <a:avLst>
              <a:gd name="adj1" fmla="val -54277"/>
              <a:gd name="adj2" fmla="val -83518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明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空白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77720" y="410760"/>
            <a:ext cx="5632560" cy="522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汇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6040" y="2687400"/>
            <a:ext cx="6040440" cy="2144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于人事综合单位（如人社厅、市（州）、区县人事局、行业主管部门（教育局、卫生局），将下级单位的数据叠加在一起，生成汇总数据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：教育局将下属各中学填报的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机关、事业单位工作人员工资统计报表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汇总生成整个教育系统的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机关、事业单位工作人员工资统计报表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总表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般的，基层填报单位不需要使用此项功能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584360" y="1074600"/>
            <a:ext cx="4000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汇总：操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69720" y="3422520"/>
            <a:ext cx="6453360" cy="1425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图：按照步骤从上到下依次设置各选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要将汇总“单位”与“目标单位”设置为同一单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论是否需要填写相应报表，选表时要求全选所有报表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“保存方案、读取方案”可以保存或者读取汇总选项设置，方便以后继续使用汇总方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3035160" y="808200"/>
            <a:ext cx="35737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4000" y="365040"/>
            <a:ext cx="6264360" cy="628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打印：单张打印或导出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0880" y="3309840"/>
            <a:ext cx="6153120" cy="1185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录改数据中，点“预览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印：直接打印当前预览表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高级打印：可选择打印机、设置打印份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导出：将当前预览表页输出为</a:t>
            </a:r>
            <a:r>
              <a:rPr b="0" lang="en-US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。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912960" y="1501920"/>
            <a:ext cx="56307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280" y="429840"/>
            <a:ext cx="4543560" cy="700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软件安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6400" y="1501560"/>
            <a:ext cx="5615280" cy="2509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lvl="1" marL="581040" indent="-223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开“我的电脑”，找到报表安装程序的文件包，直接双击运行其中的“</a:t>
            </a:r>
            <a:r>
              <a:rPr b="0" lang="en-US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Setup.exe”</a:t>
            </a: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19200" y="2552760"/>
            <a:ext cx="61927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不支持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win8\win10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操作系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支持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ows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列操作系统，安装时需要具有管理员权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般不需执行“安装数据驱动”一项，操作系统是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95</a:t>
            </a:r>
            <a:r>
              <a:rPr b="1" lang="zh-CN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98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版的计算机需要安装此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1024"/>
          <p:cNvGraphicFramePr/>
          <p:nvPr/>
        </p:nvGraphicFramePr>
        <p:xfrm>
          <a:off x="358920" y="1703520"/>
          <a:ext cx="3951000" cy="10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1703520"/>
                    <a:ext cx="395100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Picture 10" descr=""/>
          <p:cNvPicPr/>
          <p:nvPr/>
        </p:nvPicPr>
        <p:blipFill>
          <a:blip r:embed="rId3"/>
          <a:stretch/>
        </p:blipFill>
        <p:spPr>
          <a:xfrm>
            <a:off x="2778120" y="1898640"/>
            <a:ext cx="4152960" cy="2986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7360" y="317160"/>
            <a:ext cx="6094440" cy="6858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打印：批量打印或输出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61760" y="1163520"/>
            <a:ext cx="5157720" cy="439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主界面上，选“打印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1030"/>
          <p:cNvSpPr/>
          <p:nvPr/>
        </p:nvSpPr>
        <p:spPr>
          <a:xfrm>
            <a:off x="4600440" y="3875040"/>
            <a:ext cx="19195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可以批量打印或输出为</a:t>
            </a:r>
            <a:r>
              <a:rPr b="0" lang="en-US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EXCEL</a:t>
            </a:r>
            <a:r>
              <a:rPr b="0" lang="zh-CN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文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31"/>
          <p:cNvSpPr/>
          <p:nvPr/>
        </p:nvSpPr>
        <p:spPr>
          <a:xfrm>
            <a:off x="3076560" y="3225960"/>
            <a:ext cx="1071720" cy="563400"/>
          </a:xfrm>
          <a:prstGeom prst="wedgeRoundRectCallout">
            <a:avLst>
              <a:gd name="adj1" fmla="val 78537"/>
              <a:gd name="adj2" fmla="val -134388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复选框前打“勾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33"/>
          <p:cNvSpPr/>
          <p:nvPr/>
        </p:nvSpPr>
        <p:spPr>
          <a:xfrm>
            <a:off x="452520" y="3125880"/>
            <a:ext cx="209232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时打印或导出多个单位、多张表的数据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66720" y="411120"/>
            <a:ext cx="5641920" cy="57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数据报盘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47800" y="3336840"/>
            <a:ext cx="5914800" cy="1533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：将报表数据生成上报文件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明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同时上报一套表或者多套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同时上报一个单位或者多个单位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推荐：按照管理对口的原则，一次只上报一套表（可多单位一起上报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Object 1024"/>
          <p:cNvGraphicFramePr/>
          <p:nvPr/>
        </p:nvGraphicFramePr>
        <p:xfrm>
          <a:off x="847800" y="1247760"/>
          <a:ext cx="5735520" cy="17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1247760"/>
                    <a:ext cx="573552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2722680" y="1163520"/>
            <a:ext cx="4046400" cy="27403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1440" y="317520"/>
            <a:ext cx="6264000" cy="57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选择报表类别与报送单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1100160" y="1446120"/>
            <a:ext cx="1589040" cy="677880"/>
          </a:xfrm>
          <a:prstGeom prst="wedgeRoundRectCallout">
            <a:avLst>
              <a:gd name="adj1" fmla="val 84689"/>
              <a:gd name="adj2" fmla="val 47203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1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择上报类别，下一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2"/>
          <a:stretch/>
        </p:blipFill>
        <p:spPr>
          <a:xfrm>
            <a:off x="920880" y="2255760"/>
            <a:ext cx="3713040" cy="256068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6"/>
          <p:cNvSpPr/>
          <p:nvPr/>
        </p:nvSpPr>
        <p:spPr>
          <a:xfrm>
            <a:off x="2144880" y="3336840"/>
            <a:ext cx="1792080" cy="565200"/>
          </a:xfrm>
          <a:prstGeom prst="wedgeRoundRectCallout">
            <a:avLst>
              <a:gd name="adj1" fmla="val -79231"/>
              <a:gd name="adj2" fmla="val -7797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2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择上报单位，然后下一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8" descr=""/>
          <p:cNvPicPr/>
          <p:nvPr/>
        </p:nvPicPr>
        <p:blipFill>
          <a:blip r:embed="rId1"/>
          <a:stretch/>
        </p:blipFill>
        <p:spPr>
          <a:xfrm>
            <a:off x="565200" y="1133640"/>
            <a:ext cx="4002120" cy="2703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"/>
          <p:cNvPicPr/>
          <p:nvPr/>
        </p:nvPicPr>
        <p:blipFill>
          <a:blip r:embed="rId2"/>
          <a:stretch/>
        </p:blipFill>
        <p:spPr>
          <a:xfrm>
            <a:off x="2567160" y="1841400"/>
            <a:ext cx="4203360" cy="30844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7280" y="317160"/>
            <a:ext cx="6402600" cy="817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设置报盘文件存放目录和文件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5313240" y="3984480"/>
            <a:ext cx="1150920" cy="284400"/>
          </a:xfrm>
          <a:prstGeom prst="wedgeRoundRectCallout">
            <a:avLst>
              <a:gd name="adj1" fmla="val 26495"/>
              <a:gd name="adj2" fmla="val 12972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最后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754440" y="3384720"/>
            <a:ext cx="1353960" cy="884160"/>
          </a:xfrm>
          <a:prstGeom prst="wedgeRoundRectCallout">
            <a:avLst>
              <a:gd name="adj1" fmla="val 17967"/>
              <a:gd name="adj2" fmla="val 8059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然后输入详细的上报文件名（如：单位名称</a:t>
            </a: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类</a:t>
            </a: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582480" y="2892600"/>
            <a:ext cx="1202040" cy="492120"/>
          </a:xfrm>
          <a:prstGeom prst="wedgeRectCallout">
            <a:avLst>
              <a:gd name="adj1" fmla="val 23356"/>
              <a:gd name="adj2" fmla="val -15649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设置上报文件存放目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8" descr=""/>
          <p:cNvPicPr/>
          <p:nvPr/>
        </p:nvPicPr>
        <p:blipFill>
          <a:blip r:embed="rId1"/>
          <a:stretch/>
        </p:blipFill>
        <p:spPr>
          <a:xfrm>
            <a:off x="509760" y="1168560"/>
            <a:ext cx="4047840" cy="27414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7360" y="458280"/>
            <a:ext cx="4821480" cy="4590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：生成报送文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509760" y="3206880"/>
            <a:ext cx="1896840" cy="441360"/>
          </a:xfrm>
          <a:prstGeom prst="wedgeRoundRectCallout">
            <a:avLst>
              <a:gd name="adj1" fmla="val -20620"/>
              <a:gd name="adj2" fmla="val -176611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最后将所生成的上报文件报送上级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"/>
          <p:cNvPicPr/>
          <p:nvPr/>
        </p:nvPicPr>
        <p:blipFill>
          <a:blip r:embed="rId2"/>
          <a:stretch/>
        </p:blipFill>
        <p:spPr>
          <a:xfrm>
            <a:off x="3579840" y="2344680"/>
            <a:ext cx="3211560" cy="21654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7"/>
          <p:cNvSpPr/>
          <p:nvPr/>
        </p:nvSpPr>
        <p:spPr>
          <a:xfrm>
            <a:off x="2567160" y="3909960"/>
            <a:ext cx="1072800" cy="266760"/>
          </a:xfrm>
          <a:prstGeom prst="wedgeRoundRectCallout">
            <a:avLst>
              <a:gd name="adj1" fmla="val 21916"/>
              <a:gd name="adj2" fmla="val -104439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点完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5051520" y="2689200"/>
            <a:ext cx="1015920" cy="450720"/>
          </a:xfrm>
          <a:prstGeom prst="wedgeRoundRectCallout">
            <a:avLst>
              <a:gd name="adj1" fmla="val -21958"/>
              <a:gd name="adj2" fmla="val 130115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成功生成上报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3240" y="455400"/>
            <a:ext cx="4730760" cy="5079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：查看上报文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57000" y="2388960"/>
            <a:ext cx="3344760" cy="23907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！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何验证报文件是否有数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“数据交换”下的“查看报送盘”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然后选中相应上报文件即可查看数据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！上报文件已加密</a:t>
            </a: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不能通过直接双击上报文件的方式打开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4002120" y="2389320"/>
            <a:ext cx="2271600" cy="18698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657360" y="1374840"/>
            <a:ext cx="58147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何上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生成的上报盘文件，复制给上级单位即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：补充说明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66480" y="1220760"/>
            <a:ext cx="6453000" cy="381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报内容（电子数据文件）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生成的上报数据文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必要的报表补充说明（用户自行另附文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成的上报文件中有那些信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报单位、单位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数据、报表附注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所生成的上报数据文件不能用直接打开的方式，如需查看其中信息，请通过“查看上报盘”功能查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数据如有更新，请重新生成上报数据文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075040" y="1165320"/>
            <a:ext cx="4897440" cy="16063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88520" y="452160"/>
            <a:ext cx="4730760" cy="5079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接收数据：选择上报文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473040" y="1995480"/>
            <a:ext cx="4056120" cy="2771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538520" y="2832120"/>
            <a:ext cx="2260800" cy="22320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：接收下级单位上报数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击“接收报送盘”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弹出的窗口中选择上报文件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击“下一步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8520" y="461520"/>
            <a:ext cx="4730760" cy="506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接收数据：设置单位对应关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2333520" y="1003320"/>
            <a:ext cx="4392720" cy="3000240"/>
          </a:xfrm>
          <a:prstGeom prst="rect">
            <a:avLst/>
          </a:prstGeom>
          <a:ln w="0">
            <a:noFill/>
          </a:ln>
        </p:spPr>
      </p:pic>
      <p:sp>
        <p:nvSpPr>
          <p:cNvPr id="204" name="矩形标注 6"/>
          <p:cNvSpPr/>
          <p:nvPr/>
        </p:nvSpPr>
        <p:spPr>
          <a:xfrm>
            <a:off x="5078520" y="1849320"/>
            <a:ext cx="1673280" cy="505080"/>
          </a:xfrm>
          <a:prstGeom prst="wedgeRectCallout">
            <a:avLst>
              <a:gd name="adj1" fmla="val -73245"/>
              <a:gd name="adj2" fmla="val 2621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对应有误时撤消对应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标注 13"/>
          <p:cNvSpPr/>
          <p:nvPr/>
        </p:nvSpPr>
        <p:spPr>
          <a:xfrm>
            <a:off x="4675320" y="2424240"/>
            <a:ext cx="2016000" cy="523800"/>
          </a:xfrm>
          <a:prstGeom prst="wedgeRectCallout">
            <a:avLst>
              <a:gd name="adj1" fmla="val 24615"/>
              <a:gd name="adj2" fmla="val 11259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中无上报单位时，点此自动添加上报单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标注 14"/>
          <p:cNvSpPr/>
          <p:nvPr/>
        </p:nvSpPr>
        <p:spPr>
          <a:xfrm>
            <a:off x="3549600" y="1003320"/>
            <a:ext cx="1944720" cy="719280"/>
          </a:xfrm>
          <a:prstGeom prst="wedgeRectCallout">
            <a:avLst>
              <a:gd name="adj1" fmla="val -31250"/>
              <a:gd name="adj2" fmla="val 1190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报单位与系统中已有单位</a:t>
            </a:r>
            <a:r>
              <a:rPr b="1" lang="zh-CN" sz="1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名称不一致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，人工匹配接收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圆角矩形标注 7"/>
          <p:cNvSpPr/>
          <p:nvPr/>
        </p:nvSpPr>
        <p:spPr>
          <a:xfrm>
            <a:off x="1890720" y="2857680"/>
            <a:ext cx="1658880" cy="322200"/>
          </a:xfrm>
          <a:prstGeom prst="wedgeRoundRectCallout">
            <a:avLst>
              <a:gd name="adj1" fmla="val 25787"/>
              <a:gd name="adj2" fmla="val 10915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接收数据年份</a:t>
            </a:r>
            <a:r>
              <a:rPr b="0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圆角矩形标注 8"/>
          <p:cNvSpPr/>
          <p:nvPr/>
        </p:nvSpPr>
        <p:spPr>
          <a:xfrm>
            <a:off x="2647800" y="3436920"/>
            <a:ext cx="2114640" cy="755640"/>
          </a:xfrm>
          <a:prstGeom prst="wedgeRoundRectCallout">
            <a:avLst>
              <a:gd name="adj1" fmla="val 12583"/>
              <a:gd name="adj2" fmla="val -125263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报单位与系统中已有单位</a:t>
            </a:r>
            <a:r>
              <a:rPr b="1" lang="zh-CN" sz="1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名称一致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，软件自动匹配接收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31800" y="4003560"/>
            <a:ext cx="632304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能够自动匹配名称相同的单位并列出接收对应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单位名称不同的单位，手工设置接收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系统中不存在的单位，单击“自动增加上报盘中尚未对应的单位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完成后，单击“完成”开始接收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541440" y="458640"/>
            <a:ext cx="579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查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12720" y="3622680"/>
            <a:ext cx="63230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查询报表的特定行或列，选择多单位对比浏览行列数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菜单“报表处理”下的行查询或列查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报表目录中选择要查询的子表和单位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932120" y="960480"/>
            <a:ext cx="4316400" cy="2433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284120" y="2112840"/>
            <a:ext cx="150840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709560" y="1133640"/>
            <a:ext cx="3708360" cy="254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4664160" y="2544840"/>
            <a:ext cx="1724040" cy="1133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7360" y="410760"/>
            <a:ext cx="5929200" cy="560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安装界面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5960" y="3839760"/>
            <a:ext cx="5587920" cy="1003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次安装后请重新启动计算机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支持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ows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列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32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位操作系统，安装时需要具有管理员权限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般不需执行“安装数据驱动”一项，操作系统是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95</a:t>
            </a:r>
            <a:r>
              <a:rPr b="0" lang="zh-CN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98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版的计算机需要安装此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5227560" y="2544840"/>
            <a:ext cx="790560" cy="338040"/>
          </a:xfrm>
          <a:prstGeom prst="wedgeRoundRectCallout">
            <a:avLst>
              <a:gd name="adj1" fmla="val -65750"/>
              <a:gd name="adj2" fmla="val 151837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方法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4065480" y="1544760"/>
            <a:ext cx="733680" cy="339480"/>
          </a:xfrm>
          <a:prstGeom prst="wedgeRoundRectCallout">
            <a:avLst>
              <a:gd name="adj1" fmla="val -123120"/>
              <a:gd name="adj2" fmla="val 197291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方法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541440" y="458640"/>
            <a:ext cx="579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查询：切换模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612720" y="3622680"/>
            <a:ext cx="63230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具按钮按钮说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行查询、列查询”：切换查询模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    行（列）”：切换查询特定的行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导出、打印” ：当前表导出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或者直接打印出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455840" y="992160"/>
            <a:ext cx="4884480" cy="2427480"/>
          </a:xfrm>
          <a:prstGeom prst="rect">
            <a:avLst/>
          </a:prstGeom>
          <a:ln w="0">
            <a:noFill/>
          </a:ln>
        </p:spPr>
      </p:pic>
      <p:sp>
        <p:nvSpPr>
          <p:cNvPr id="217" name="矩形标注 8"/>
          <p:cNvSpPr/>
          <p:nvPr/>
        </p:nvSpPr>
        <p:spPr>
          <a:xfrm>
            <a:off x="1171440" y="1749600"/>
            <a:ext cx="733680" cy="393480"/>
          </a:xfrm>
          <a:prstGeom prst="wedgeRectCallout">
            <a:avLst>
              <a:gd name="adj1" fmla="val 64768"/>
              <a:gd name="adj2" fmla="val -10647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切换查询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标注 12"/>
          <p:cNvSpPr/>
          <p:nvPr/>
        </p:nvSpPr>
        <p:spPr>
          <a:xfrm>
            <a:off x="3259080" y="1841400"/>
            <a:ext cx="1030320" cy="451080"/>
          </a:xfrm>
          <a:prstGeom prst="wedgeRectCallout">
            <a:avLst>
              <a:gd name="adj1" fmla="val -64453"/>
              <a:gd name="adj2" fmla="val -5371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所查询行列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标注 13"/>
          <p:cNvSpPr/>
          <p:nvPr/>
        </p:nvSpPr>
        <p:spPr>
          <a:xfrm>
            <a:off x="1327320" y="2292480"/>
            <a:ext cx="733320" cy="396720"/>
          </a:xfrm>
          <a:prstGeom prst="wedgeRectCallout">
            <a:avLst>
              <a:gd name="adj1" fmla="val 78240"/>
              <a:gd name="adj2" fmla="val -8770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切换查询行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1440" y="458640"/>
            <a:ext cx="5798880" cy="533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备份恢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92200" y="2518920"/>
            <a:ext cx="6323040" cy="2427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了在紧急时候能迅速恢复你的工作，请注意经常备份你的数据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建议在数据录入、修改期间，每天进行一次备份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建议退出软件时，选择“备份后退出”，系统将自动把数据备份在安装目录下</a:t>
            </a:r>
            <a:r>
              <a:rPr b="0" lang="en-US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保管好你最新的备份文件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备份与恢复数据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“系统维护”下的“备份数据”；备份后将备份数据复制到安全的位置存储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“系统维护”下的“恢复数据”，可以选择以前的备份数据并还原到该数据备份时的状态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！</a:t>
            </a: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恢复备份后，当前的数据将会被覆盖，请在恢复前确认当前的数据是否需要保留，如有必要，请先备份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优化数据：整理数据文件碎片，可以提高运行速度，每周运行一次及可！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定访问密码：“工具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\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修改密码可设置打开软件的密码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1382760" y="1052640"/>
          <a:ext cx="3943440" cy="12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760" y="1052640"/>
                    <a:ext cx="394344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1800" y="312840"/>
            <a:ext cx="4875120" cy="6048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五、技术支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首先参阅本演示文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电话支持：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028-86081997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转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来电联系时：请首先说明你的单位名称、所使用软件版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准备好纸、笔，以便及时记录我们给你的答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运行期间：请关注省厅或相关网站核实本软件有否更新，如有请及时下载并应用更新 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280" y="429840"/>
            <a:ext cx="4543560" cy="700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win10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电脑软件兼容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片 2" descr=""/>
          <p:cNvPicPr/>
          <p:nvPr/>
        </p:nvPicPr>
        <p:blipFill>
          <a:blip r:embed="rId1"/>
          <a:stretch/>
        </p:blipFill>
        <p:spPr>
          <a:xfrm>
            <a:off x="1496880" y="960480"/>
            <a:ext cx="43848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000" y="317160"/>
            <a:ext cx="5856120" cy="630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打开软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60240" y="3422520"/>
            <a:ext cx="56451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 fontScale="91000"/>
          </a:bodyPr>
          <a:p>
            <a:pPr marL="243720" indent="-243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双击桌面“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2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广力公有经济企业统计报表”图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3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：（不同报表）程序图标名称约有不同，请注意区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弹出的登录框中，用户名一栏选择管理员或操作员用户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3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份应是“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2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3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预设密码均为空，直接确定即可进入软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1496880" y="1123920"/>
            <a:ext cx="1013040" cy="395280"/>
          </a:xfrm>
          <a:prstGeom prst="wedgeRoundRectCallout">
            <a:avLst>
              <a:gd name="adj1" fmla="val 2648"/>
              <a:gd name="adj2" fmla="val 181134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双击打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"/>
          <a:stretch/>
        </p:blipFill>
        <p:spPr>
          <a:xfrm>
            <a:off x="1417680" y="2184480"/>
            <a:ext cx="695160" cy="8571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" descr=""/>
          <p:cNvPicPr/>
          <p:nvPr/>
        </p:nvPicPr>
        <p:blipFill>
          <a:blip r:embed="rId2"/>
          <a:stretch/>
        </p:blipFill>
        <p:spPr>
          <a:xfrm>
            <a:off x="2859120" y="1127160"/>
            <a:ext cx="36003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1080" y="504720"/>
            <a:ext cx="5870520" cy="57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界面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1360" y="3479400"/>
            <a:ext cx="5983200" cy="1368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此为打开软件的第一个界面：软件主界面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具栏：提供填报报表的主要功能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菜单栏：报表查询、表样收发、数据备份恢复、修改系统密码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力报表使用风格：从左至右，依次执行工具栏各功能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片 1" descr=""/>
          <p:cNvPicPr/>
          <p:nvPr/>
        </p:nvPicPr>
        <p:blipFill>
          <a:blip r:embed="rId1"/>
          <a:stretch/>
        </p:blipFill>
        <p:spPr>
          <a:xfrm>
            <a:off x="816120" y="1096920"/>
            <a:ext cx="53211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软件主要功能</a:t>
            </a:r>
            <a:r>
              <a:rPr b="1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12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1" lang="zh-CN" sz="1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必用</a:t>
            </a:r>
            <a:r>
              <a:rPr b="1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58560" y="1253880"/>
            <a:ext cx="6583320" cy="3552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</a:t>
            </a:r>
            <a:r>
              <a:rPr b="1" lang="en-US" sz="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建立数据填报单位、管理填报单位信息、导出单位名录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改</a:t>
            </a:r>
            <a:r>
              <a:rPr b="1" lang="en-US" sz="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编辑、浏览报表数据、打印报表、或者将数据导出</a:t>
            </a:r>
            <a:r>
              <a:rPr b="0" lang="en-US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校验</a:t>
            </a:r>
            <a:r>
              <a:rPr b="1" lang="en-US" sz="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审核报表数据是否正确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汇总：将多个单位的数据叠加累计到一个综合单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层单位一般不必使用此功能，主要是人事综合单位使用，如人社厅、市（州）、区县人事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印：批量打印报表或导出为</a:t>
            </a:r>
            <a:r>
              <a:rPr b="0" lang="en-US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盘</a:t>
            </a:r>
            <a:r>
              <a:rPr b="1" lang="en-US" sz="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上报数据，自动生成电子上报文件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计算：用于计算生成总表、平均年龄、平均工资、合计行、合计列等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本处为表间计算，主要用于生成总表数据，如“公务员基本情况（总表）”、“全国机关职工分职务层次人数和工资情况”等；本处也具备表内计算功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改时使用表内计算，可以快速计算出当前表的平均年龄、平均工资、合计行、合计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查询：查询报表的特定行或列，各单位对比浏览行列数据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风格：工具栏从左向右依次进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8"/>
          <p:cNvSpPr/>
          <p:nvPr/>
        </p:nvSpPr>
        <p:spPr>
          <a:xfrm>
            <a:off x="1784520" y="1343160"/>
            <a:ext cx="325440" cy="147600"/>
          </a:xfrm>
          <a:prstGeom prst="rightArrow">
            <a:avLst>
              <a:gd name="adj1" fmla="val 50000"/>
              <a:gd name="adj2" fmla="val 582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4016520" y="1343160"/>
            <a:ext cx="325440" cy="147600"/>
          </a:xfrm>
          <a:prstGeom prst="rightArrow">
            <a:avLst>
              <a:gd name="adj1" fmla="val 50000"/>
              <a:gd name="adj2" fmla="val 582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1"/>
          <a:stretch/>
        </p:blipFill>
        <p:spPr>
          <a:xfrm>
            <a:off x="4592520" y="623880"/>
            <a:ext cx="1935360" cy="14158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2"/>
          <p:cNvSpPr/>
          <p:nvPr/>
        </p:nvSpPr>
        <p:spPr>
          <a:xfrm>
            <a:off x="2720880" y="3624120"/>
            <a:ext cx="325440" cy="147960"/>
          </a:xfrm>
          <a:prstGeom prst="rightArrow">
            <a:avLst>
              <a:gd name="adj1" fmla="val 50000"/>
              <a:gd name="adj2" fmla="val 5812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"/>
          <p:cNvPicPr/>
          <p:nvPr/>
        </p:nvPicPr>
        <p:blipFill>
          <a:blip r:embed="rId2"/>
          <a:stretch/>
        </p:blipFill>
        <p:spPr>
          <a:xfrm>
            <a:off x="-15840" y="2544840"/>
            <a:ext cx="2666880" cy="19429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4"/>
          <p:cNvSpPr/>
          <p:nvPr/>
        </p:nvSpPr>
        <p:spPr>
          <a:xfrm>
            <a:off x="6715080" y="1271520"/>
            <a:ext cx="325440" cy="147600"/>
          </a:xfrm>
          <a:prstGeom prst="rightArrow">
            <a:avLst>
              <a:gd name="adj1" fmla="val 50000"/>
              <a:gd name="adj2" fmla="val 582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"/>
          <p:cNvPicPr/>
          <p:nvPr/>
        </p:nvPicPr>
        <p:blipFill>
          <a:blip r:embed="rId3"/>
          <a:stretch/>
        </p:blipFill>
        <p:spPr>
          <a:xfrm>
            <a:off x="3152880" y="3192480"/>
            <a:ext cx="1166760" cy="86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4"/>
          <a:stretch/>
        </p:blipFill>
        <p:spPr>
          <a:xfrm>
            <a:off x="4737240" y="2400480"/>
            <a:ext cx="2447640" cy="20858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7"/>
          <p:cNvSpPr/>
          <p:nvPr/>
        </p:nvSpPr>
        <p:spPr>
          <a:xfrm>
            <a:off x="4448160" y="3552840"/>
            <a:ext cx="325440" cy="147600"/>
          </a:xfrm>
          <a:prstGeom prst="rightArrow">
            <a:avLst>
              <a:gd name="adj1" fmla="val 50000"/>
              <a:gd name="adj2" fmla="val 582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0" y="4560840"/>
            <a:ext cx="7169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特殊操作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11-----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缩小表册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12-----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放大表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1080" y="239400"/>
            <a:ext cx="6451560" cy="4316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步操作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6" descr=""/>
          <p:cNvPicPr/>
          <p:nvPr/>
        </p:nvPicPr>
        <p:blipFill>
          <a:blip r:embed="rId5"/>
          <a:stretch/>
        </p:blipFill>
        <p:spPr>
          <a:xfrm>
            <a:off x="2144880" y="816120"/>
            <a:ext cx="1871640" cy="981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0"/>
          <p:cNvSpPr/>
          <p:nvPr/>
        </p:nvSpPr>
        <p:spPr>
          <a:xfrm>
            <a:off x="2727360" y="1901880"/>
            <a:ext cx="1000080" cy="339840"/>
          </a:xfrm>
          <a:prstGeom prst="wedgeRoundRectCallout">
            <a:avLst>
              <a:gd name="adj1" fmla="val -68986"/>
              <a:gd name="adj2" fmla="val -132074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右键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3084480" y="2544840"/>
            <a:ext cx="1000080" cy="339480"/>
          </a:xfrm>
          <a:prstGeom prst="wedgeRoundRectCallout">
            <a:avLst>
              <a:gd name="adj1" fmla="val 21240"/>
              <a:gd name="adj2" fmla="val 193750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录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6"/>
          <a:stretch/>
        </p:blipFill>
        <p:spPr>
          <a:xfrm>
            <a:off x="0" y="671400"/>
            <a:ext cx="1600200" cy="885960"/>
          </a:xfrm>
          <a:prstGeom prst="rect">
            <a:avLst/>
          </a:prstGeom>
          <a:ln w="0">
            <a:noFill/>
          </a:ln>
        </p:spPr>
      </p:pic>
      <p:sp>
        <p:nvSpPr>
          <p:cNvPr id="88" name="矩形标注 18"/>
          <p:cNvSpPr/>
          <p:nvPr/>
        </p:nvSpPr>
        <p:spPr>
          <a:xfrm>
            <a:off x="847800" y="1679400"/>
            <a:ext cx="842760" cy="360360"/>
          </a:xfrm>
          <a:prstGeom prst="wedgeRectCallout">
            <a:avLst>
              <a:gd name="adj1" fmla="val -101222"/>
              <a:gd name="adj2" fmla="val -10864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点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05:30:57Z</dcterms:created>
  <dc:creator>xwn</dc:creator>
  <dc:description/>
  <dc:language>en-US</dc:language>
  <cp:lastModifiedBy>YJ</cp:lastModifiedBy>
  <cp:lastPrinted>2010-12-02T06:09:16Z</cp:lastPrinted>
  <dcterms:modified xsi:type="dcterms:W3CDTF">2023-02-08T10:08:43Z</dcterms:modified>
  <cp:revision>462</cp:revision>
  <dc:subject/>
  <dc:title>报表2004版安装说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14</vt:lpwstr>
  </property>
</Properties>
</file>